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19D1-48FB-4ADB-98D1-3EB011DF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D8B7-EC35-4439-9FBA-3670E190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58F2-5D1F-42FF-8C99-2D5AE089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BC3E-2CD7-46B5-9F41-313B15CC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F0A7-0118-460B-A5E5-D00B8E86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6E68-6CB1-45EA-9087-D84215BC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EBAD-C3F6-411E-ACA7-7B55B024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4A07-C56B-44A5-A54D-F532A475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F0F1-AAC2-49D5-8685-97F32031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468-6368-4784-A1E4-95D4CE25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0B72-06C0-4BE6-B051-88226F60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65E4-75AC-44B0-B57E-FD5CD243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3AF4-66D8-4317-8406-2C33448C295C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Calibri"/>
              </a:rPr>
              <a:t>Chapter 3 Bioregions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: Balanced Commun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7777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8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anff Springs Sna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95280" y="1424160"/>
            <a:ext cx="8640720" cy="50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urrowing Ow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395280" y="1733400"/>
            <a:ext cx="7927920" cy="4432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Leatherback Tur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108000" y="1557360"/>
            <a:ext cx="903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do these three creatures have in common???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at is a Biore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part of the earth’s surface identified by its combination of natural and human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gardless of its size, every bioregion combines living species (including humans) and the non living factors that support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96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7:41:03Z</dcterms:created>
  <dc:creator>Jason</dc:creator>
  <dc:description/>
  <dc:language>en-US</dc:language>
  <cp:lastModifiedBy>Jason</cp:lastModifiedBy>
  <dcterms:modified xsi:type="dcterms:W3CDTF">2010-10-20T12:08:33Z</dcterms:modified>
  <cp:revision>11</cp:revision>
  <dc:subject/>
  <dc:title>Chapter 3 Bioregions: Balanced Communities</dc:title>
</cp:coreProperties>
</file>